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815928"/>
        <c:axId val="48692540"/>
      </c:barChart>
      <c:catAx>
        <c:axId val="358159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92540"/>
        <c:crosses val="autoZero"/>
        <c:auto val="1"/>
        <c:lblAlgn val="ctr"/>
        <c:lblOffset val="100"/>
        <c:noMultiLvlLbl val="0"/>
      </c:catAx>
      <c:valAx>
        <c:axId val="486925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159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6DB3-D366-4D46-8AF4-ADFFE5A5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B95D-EED5-4332-BD62-67A141FF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0B5D-F92B-46AD-91AB-6C9D95E3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0758-BD9A-4123-9C1E-F47808E31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F4B2-A04B-4803-986C-9068417A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69D6-D5E5-43BE-B59C-03D190EC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97E2-1D53-4988-BCF6-02801540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987A-7EBE-4D32-9B94-A0D26BDC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D1E7-7E81-4928-86A8-25BEB2B2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1703-EB50-4765-BB7A-98372795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D23B-79E0-4F3F-9F97-10CB4CBC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7DDC-E5BF-4115-9E7D-69DF69A0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A88BF-D3E8-4A33-A9C7-FA9434048B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