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41286"/>
        <c:axId val="89647034"/>
      </c:barChart>
      <c:catAx>
        <c:axId val="26241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47034"/>
        <c:crosses val="autoZero"/>
        <c:auto val="1"/>
        <c:lblAlgn val="ctr"/>
        <c:lblOffset val="100"/>
        <c:noMultiLvlLbl val="0"/>
      </c:catAx>
      <c:valAx>
        <c:axId val="89647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1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70E-7F6D-4B90-8A94-E9F0D21E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C53-0C45-407B-92D0-56841B1A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465-57EF-4738-9908-3DB7D237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D83-0F40-4DBB-87E2-7C66EDF3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F82-939A-4CB1-B288-55541C0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59D-BEFB-44E6-881D-5F2643A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389-73F3-407E-A85C-1E1F47C9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2A8-1705-45BE-B8BE-1FD8994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CF2-03E9-4433-B440-75477A8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E76-9EA4-4DB7-9B3B-0F66104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C99-2835-49EF-83FE-C6B6994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FE0-87DC-4714-A968-A86C14F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55F6-62A9-48B7-A034-DA9EE072F9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