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98691"/>
        <c:axId val="85894054"/>
      </c:barChart>
      <c:catAx>
        <c:axId val="89198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94054"/>
        <c:crosses val="autoZero"/>
        <c:auto val="1"/>
        <c:lblAlgn val="ctr"/>
        <c:lblOffset val="100"/>
        <c:noMultiLvlLbl val="0"/>
      </c:catAx>
      <c:valAx>
        <c:axId val="85894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98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D3B2-80BC-437E-AF8A-E438CE73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91B2-5668-4FBB-849B-DE629FE5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DAFA-0649-426C-80F9-A1377EC7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76FA-3B53-4CB0-8699-11A5CE55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838-517A-44A3-AA8A-D6DFCDA4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995-A8B9-4FEE-A3CD-F7C262C5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E254-3962-47F8-B144-1D1A6326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3AC-5B51-473D-BC61-357764F6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E69-050B-436E-9528-7A0F9184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7271-28ED-463C-A43D-BBD7A5EE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8DEC-F67D-4690-A275-A62A643B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0EF-088E-436C-AF48-71FFC10C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8348B-53AE-4A1A-874C-3CD5382678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