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60001"/>
        <c:axId val="25075917"/>
      </c:barChart>
      <c:catAx>
        <c:axId val="65160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75917"/>
        <c:crosses val="autoZero"/>
        <c:auto val="1"/>
        <c:lblAlgn val="ctr"/>
        <c:lblOffset val="100"/>
        <c:noMultiLvlLbl val="0"/>
      </c:catAx>
      <c:valAx>
        <c:axId val="25075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60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0E5-7116-42B2-9795-B0520DC5D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5FB-C11B-4119-A079-43B61988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B4E-8CA1-411B-A042-CA9AD6BD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98F-4E0F-4BFE-9C18-B7395016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F07-2BE9-4F3D-966F-B9FD2DD0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B6D-5C13-4FB1-9CC2-F9D9592A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1583-D13E-4B07-864B-94AFC24B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144-8FAF-4672-B339-94B772A1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3A4-048A-43AB-B5D3-62A479F9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BBF3-9F9E-41EE-9275-458C81F4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62F-8919-43CA-8E3C-E376E74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FE7-1BAB-466C-BE54-6541E3E4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D3654-701F-404A-A9E1-9968E563E3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