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036388"/>
        <c:axId val="8494312"/>
      </c:barChart>
      <c:catAx>
        <c:axId val="920363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4312"/>
        <c:crosses val="autoZero"/>
        <c:auto val="1"/>
        <c:lblAlgn val="ctr"/>
        <c:lblOffset val="100"/>
        <c:noMultiLvlLbl val="0"/>
      </c:catAx>
      <c:valAx>
        <c:axId val="84943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363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A841-5C34-4E58-B11A-65C9412E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2B1A-A8B2-488A-91F5-14F93D05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EB30-0711-4F0B-A57A-243B62C02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1165-7D63-446E-9DEC-2B47C463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2EB7-8D6E-48B6-A9D7-A55467DB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6118-E469-4B35-BFE0-C61C76F8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E061-C6B3-40D0-86AC-F1D18E5F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17F9-3CD1-4174-8D05-866353A7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26EB-3BD9-4456-8DA3-96F02A64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6EF6-CE1C-4A00-97CF-11011618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CF32-B856-4DE7-9450-0AD5042C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F830-96D2-4D29-B4B7-EE95DE0C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23CF7-A15C-42DB-8BF2-2B37A6D2BD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