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864565"/>
        <c:axId val="42472489"/>
      </c:barChart>
      <c:catAx>
        <c:axId val="338645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472489"/>
        <c:crosses val="autoZero"/>
        <c:auto val="1"/>
        <c:lblAlgn val="ctr"/>
        <c:lblOffset val="100"/>
        <c:noMultiLvlLbl val="0"/>
      </c:catAx>
      <c:valAx>
        <c:axId val="424724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8645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C97D-7462-4A52-9FA3-8A599B5BD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FD7D-2A94-4C7A-8FF6-00CA3FD7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6B48-F07C-4340-ABB0-D082ECA95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547B-4287-4DA0-996D-9AF445376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7E37-4D09-409E-8C2D-7ED9F9F8C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2A29-79B2-4761-9E0F-6C76A67A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570A-6546-4D3C-979B-CB7D4265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248B-DD89-4B98-A52E-4390ACB0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206A-4272-4C75-A968-097B1847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B3EA-F5B2-4013-8976-8923FA89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37B9-85EE-464B-B68C-D5EC0F11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D46F-7138-414E-A1AA-38451873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BBACC8-1DA5-4046-AAF1-573EA435E9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