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913025"/>
        <c:axId val="96244680"/>
      </c:barChart>
      <c:catAx>
        <c:axId val="409130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244680"/>
        <c:crosses val="autoZero"/>
        <c:auto val="1"/>
        <c:lblAlgn val="ctr"/>
        <c:lblOffset val="100"/>
        <c:noMultiLvlLbl val="0"/>
      </c:catAx>
      <c:valAx>
        <c:axId val="962446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9130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5C00-4BCC-4292-A03F-6FE4F4AB4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E1CF-C1F5-4F24-AD08-298C16AA2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8666-E70C-44E2-BFDD-1B311CDD9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54BE-D88F-476F-B0FB-4EEBDE2A8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A070-8CF1-4D3B-9923-E0BF6FAAD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799F-EE59-4691-9F26-164BD0BE9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0AA4-693C-4D55-A5D2-EE843A185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CCB4-8682-4CC4-B95B-FA611A79E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15E0-3C40-420F-98BF-DB42080CC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684F-1E81-4BEA-ACFF-BFE7CDEEA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40EF-73DC-4144-B272-866FAF97D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0C7B-3593-47BF-BF34-3D4AFFF09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CFD056-7718-43F2-AACB-170E0A27666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