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84998"/>
        <c:axId val="10118375"/>
      </c:barChart>
      <c:catAx>
        <c:axId val="373849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18375"/>
        <c:crosses val="autoZero"/>
        <c:auto val="1"/>
        <c:lblAlgn val="ctr"/>
        <c:lblOffset val="100"/>
        <c:noMultiLvlLbl val="0"/>
      </c:catAx>
      <c:valAx>
        <c:axId val="101183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849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6D1-F488-4FFB-8042-7328A604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F8F9-8323-4280-8B42-BEC1FBA2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3EA2-0D9F-42F6-BA89-2C2E28AE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6AA4-7111-4CA0-B615-7E5E05AD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19E-4A81-47D9-94A3-79A7B7AC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3DC5-48A3-4391-9B62-FA0355F0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25AF-E7CE-42B2-B2D0-08EE7200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5FD9-BBFF-4CE8-881B-A967A9A8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1D36-06D8-4A2F-9EE6-F78AF14A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1FD9-162E-4037-BBD2-3CD6A43D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83AA-5E6D-4A30-9585-0922A4B1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31CA-790D-46E1-A5BE-DC7E4FA4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12ED9-9508-4591-B23B-D01D12FEB1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