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71473"/>
        <c:axId val="93930973"/>
      </c:barChart>
      <c:catAx>
        <c:axId val="17071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30973"/>
        <c:crosses val="autoZero"/>
        <c:auto val="1"/>
        <c:lblAlgn val="ctr"/>
        <c:lblOffset val="100"/>
        <c:noMultiLvlLbl val="0"/>
      </c:catAx>
      <c:valAx>
        <c:axId val="93930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71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CAA-0FF6-4A6D-892B-CD82E93D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1CE-6743-4F71-A1FE-A2FACD2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006-BE07-4347-A260-45F5E8F5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72F-A873-4DA2-B78B-609867E7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3EA-5A8E-4AD3-B32E-3B095C5B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792-B8B1-4F99-98D9-9C59380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FCE-348E-4B77-9B64-E5AE863D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89B-4CE8-4E16-BDEC-0C33171B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8A2-76B3-4A31-B8FF-1ECBBD1B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227-2B38-4087-A93B-A93DF6B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9B3-90D1-457E-A468-73AC7452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6B7-F438-427A-9102-122FDEB1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8ED33-687D-4160-B659-B43C3F79D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