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6474655"/>
        <c:axId val="14592653"/>
      </c:barChart>
      <c:catAx>
        <c:axId val="9647465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592653"/>
        <c:crosses val="autoZero"/>
        <c:auto val="1"/>
        <c:lblAlgn val="ctr"/>
        <c:lblOffset val="100"/>
        <c:noMultiLvlLbl val="0"/>
      </c:catAx>
      <c:valAx>
        <c:axId val="1459265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47465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F2866-F147-42D2-B96B-B0ED462D7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BE0B4-C496-46CA-9B3A-5825675CB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37080-6EF7-4BFC-8D13-F08C366F6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CA3FF-DDC4-4C55-8903-9FE139279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E6F19-C1FA-48F5-A462-FA8AE8656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376DF-5482-4401-BF69-7E807F28D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EC587-F635-4061-BDC8-115B74297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53A13-C32C-49D6-86C1-48EF48FBA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6A32A-42A1-4D57-8A7C-1F63B1647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3CAE9-38F8-41FC-82B3-C4589AB6A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7874F-EDDE-4B23-BACA-4A82FBE26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6081A-A47D-4E56-9DAC-2A74378E3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7342D2-7244-482C-904F-D55D5C04C7B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